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BF5-17D8-4D82-895C-05F118FC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731-83BE-4257-B780-F08565E1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2C6-80D5-4022-A37A-78441500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A7D-1B10-4FA9-9B62-96393241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B3C-181C-43A2-ADBB-5BA59F98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B65-CAEE-4F66-8616-85002A0A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9CC-1541-4C9A-A9BA-C2205701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D8E-BBA7-488C-93D7-35383F38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E63-DBF0-42FE-A658-CDC7D521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E78-FB7A-417C-BA04-83D41488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39E-F93F-4AC7-98D9-17B0593B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199-1EA6-41AF-91D1-BBC9C143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0008-E88F-4A50-925F-918F38AFC8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NINE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34460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4280" y="2058840"/>
            <a:ext cx="3429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δωμι (4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διδωμι (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διδωμι (1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στημι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νιστημι (1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ιστημι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ιθημι (1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429160" y="2052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429160" y="26290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e awa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429160" y="32288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and over, en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429160" y="38577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use to stand, st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429160" y="44816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ais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429160" y="50958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ace behi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429160" y="5715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t,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214280" y="1714680"/>
            <a:ext cx="3429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τιθημι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φιημι (1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υνιημι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λλυμι (9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κνυμ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μπλημι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ημι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29160" y="16430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t, place up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429160" y="22194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ave, forgive, dism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429160" y="28195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429160" y="344808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uin, destr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429160" y="40719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oint out, show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429160" y="46864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l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429160" y="53053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71680" y="17146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14280" y="2428920"/>
            <a:ext cx="342900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καιο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ηροω (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ταυροω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λειο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ανεροω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5429160" y="24224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justif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5429160" y="29988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lfil, fill,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5429160" y="35989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ruc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429160" y="422748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omplish,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5429160" y="485136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veal, make know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571680" y="114300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214280" y="1857240"/>
            <a:ext cx="3429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απαω (1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ενναω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ψαω (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ωταω (6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ερωταω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ζαω (1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αομαι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214960" y="18511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ove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214960" y="24271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ar (be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214960" y="302724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irst (f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214960" y="36561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5214960" y="42800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k (f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214960" y="48960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5214960" y="551016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214280" y="1511280"/>
            <a:ext cx="342900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οπια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ικα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ινα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ανα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ιμαω (2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τιμα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214960" y="15048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abou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214960" y="208116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ver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5214960" y="268128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214960" y="33098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eive, lead ast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5214960" y="39337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onour,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214960" y="455148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928800" y="529128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lu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ρα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we learnt in Chapter 11 because it has th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δ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20:05:25Z</dcterms:created>
  <dc:creator>Sarah</dc:creator>
  <dc:description/>
  <dc:language>en-US</dc:language>
  <cp:lastModifiedBy>Sarah</cp:lastModifiedBy>
  <dcterms:modified xsi:type="dcterms:W3CDTF">2009-07-09T17:09:52Z</dcterms:modified>
  <cp:revision>28</cp:revision>
  <dc:subject/>
  <dc:title>Slide 1</dc:title>
</cp:coreProperties>
</file>